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A20-9476-4204-9CAC-D12416F2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F2F-4194-46F2-BEF6-F296DB0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276-BB22-4A86-8434-D0A0FF8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539-3391-4407-BE56-D32BA36C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EEB-6A91-426F-826D-F36EACB1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9E7-9D43-419E-B33E-6CE728DB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CE4-6435-4785-A934-7756D09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C65-898C-4376-A1DD-25260AA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0E6-9C86-408C-BEB6-9FC27FD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746-A786-45E6-B7C6-8E97343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956-4CD0-429D-836E-CEBC98C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DE2-2617-45F6-9008-B415620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6D0-5EB7-4F76-AF31-B834B634E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ALLOWEEN NIGHT when I woke up my lights turned on and off and when it stopped I saw a black figure staring at me and it said give me all your candy and I said no you mean witch and it took my candy rite out of my hand and I didn’t see my candy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30:00Z</dcterms:created>
  <dc:creator>Stephanie Ann Rhodes</dc:creator>
  <dc:description/>
  <dc:language>en-US</dc:language>
  <cp:lastModifiedBy>Joni George</cp:lastModifiedBy>
  <dcterms:modified xsi:type="dcterms:W3CDTF">2010-11-04T18:41:27Z</dcterms:modified>
  <cp:revision>4</cp:revision>
  <dc:subject/>
  <dc:title>The WITCH</dc:title>
</cp:coreProperties>
</file>